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10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C879-C2FD-4C0C-8BED-A42C181D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BDDF-7635-4ABE-89F5-00358685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7EDE-E4F9-4EA6-A105-E6B3DA83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F65F-5ABC-47D8-890A-A4CB1A69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908D-05FE-4F3D-A89D-15F2492D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15D3-0B50-466E-9B56-53D58C22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B4B1-D92D-4105-9C03-CC818D20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BD04-C091-498B-980B-AA9770F1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1A4E-576A-492E-A211-687E9400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B81F-7899-4D4C-AC49-55DFBBB6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D253-A63B-4EF8-8F06-A795A2CA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D6F46-B3E3-4D3D-952A-79F35480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C2CF-0C66-40F1-916D-A27C5884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12F2-9D79-4E69-BA4E-E99D87E7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2459-661F-4E83-B529-6E2ABC63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4F33-82E5-4BD8-8A8F-DF584642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022A-4496-4D93-9B26-53392106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D7A6A-296A-41FD-8FBE-4288623A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D3E60-08B5-4AFF-B554-86CC7A07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30ED-0267-4058-8668-13A3A7E7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41854-B251-4E57-BAE8-9EE83968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1B5B-6829-4166-AE6B-601587DD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F6066-65CC-4E82-A330-0376980B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DEFF-DDAA-4290-ADED-CDD43568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D934-455E-43C5-8684-72DE261FFE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6F7B-C9DC-4EA0-9B04-B60ED52DDE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Imperfec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verb tense to describe events which happen in the past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the following  acronym to help remember when to use the imperfect ten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W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 = physical descriptions or attrib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la era alta y él era baj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 era bonita y jove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ú eras gordi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4" descr="MCj03977660000[1]"/>
          <p:cNvPicPr/>
          <p:nvPr/>
        </p:nvPicPr>
        <p:blipFill>
          <a:blip r:embed="rId1"/>
          <a:stretch/>
        </p:blipFill>
        <p:spPr>
          <a:xfrm>
            <a:off x="7238880" y="228600"/>
            <a:ext cx="1675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905120"/>
            <a:ext cx="784872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= wea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acía sol ay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lovía mucho en abri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 nevaba en noviembre much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4" descr="MCj01990210000[1]"/>
          <p:cNvPicPr/>
          <p:nvPr/>
        </p:nvPicPr>
        <p:blipFill>
          <a:blip r:embed="rId1"/>
          <a:stretch/>
        </p:blipFill>
        <p:spPr>
          <a:xfrm>
            <a:off x="457200" y="0"/>
            <a:ext cx="21765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1600200"/>
            <a:ext cx="7848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= age (chronologic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los tenían siete años el año pasa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 tenía diez años cuando yo compré mi propia biciclet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sotros teníamos un año cuando Nosotros tomamos lecciónes de natació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MMj02838990000[1]"/>
          <p:cNvPicPr/>
          <p:nvPr/>
        </p:nvPicPr>
        <p:blipFill>
          <a:blip r:embed="rId1"/>
          <a:stretch/>
        </p:blipFill>
        <p:spPr>
          <a:xfrm>
            <a:off x="7315200" y="4876920"/>
            <a:ext cx="1327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57200" y="1600200"/>
            <a:ext cx="7848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 = time (numbe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ra a la una anoch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ran las siete de la mañ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ran las dos menos tres de la tar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MMj03368530000[1]"/>
          <p:cNvPicPr/>
          <p:nvPr/>
        </p:nvPicPr>
        <p:blipFill>
          <a:blip r:embed="rId1"/>
          <a:stretch/>
        </p:blipFill>
        <p:spPr>
          <a:xfrm>
            <a:off x="6781680" y="533520"/>
            <a:ext cx="7160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600200"/>
            <a:ext cx="7848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 = emo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 estaba conten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los estaban enojado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ú estabas preocupado anoch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MCj02325990000[1]"/>
          <p:cNvPicPr/>
          <p:nvPr/>
        </p:nvPicPr>
        <p:blipFill>
          <a:blip r:embed="rId1"/>
          <a:stretch/>
        </p:blipFill>
        <p:spPr>
          <a:xfrm>
            <a:off x="7238880" y="228600"/>
            <a:ext cx="1320840" cy="181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MCj02320490000[1]"/>
          <p:cNvPicPr/>
          <p:nvPr/>
        </p:nvPicPr>
        <p:blipFill>
          <a:blip r:embed="rId2"/>
          <a:stretch/>
        </p:blipFill>
        <p:spPr>
          <a:xfrm>
            <a:off x="7238880" y="4724280"/>
            <a:ext cx="1706760" cy="186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MCj02934900000[1]"/>
          <p:cNvPicPr/>
          <p:nvPr/>
        </p:nvPicPr>
        <p:blipFill>
          <a:blip r:embed="rId3"/>
          <a:stretch/>
        </p:blipFill>
        <p:spPr>
          <a:xfrm>
            <a:off x="533520" y="304920"/>
            <a:ext cx="1831680" cy="1128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MCj02991390000[1]"/>
          <p:cNvPicPr/>
          <p:nvPr/>
        </p:nvPicPr>
        <p:blipFill>
          <a:blip r:embed="rId4"/>
          <a:stretch/>
        </p:blipFill>
        <p:spPr>
          <a:xfrm>
            <a:off x="0" y="5369040"/>
            <a:ext cx="1825560" cy="148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MCj02392050000[1]"/>
          <p:cNvPicPr/>
          <p:nvPr/>
        </p:nvPicPr>
        <p:blipFill>
          <a:blip r:embed="rId5"/>
          <a:stretch/>
        </p:blipFill>
        <p:spPr>
          <a:xfrm>
            <a:off x="7238880" y="2362320"/>
            <a:ext cx="1511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335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= reoccurring actions / repeating actions/ actions interrup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Él asistía a la escuela todos los día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Yo comía al mediodía cada almuerzo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Yo lavaba los platos cuando tú  me llamaste por teléfono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MCj01358170000[1]"/>
          <p:cNvPicPr/>
          <p:nvPr/>
        </p:nvPicPr>
        <p:blipFill>
          <a:blip r:embed="rId1"/>
          <a:stretch/>
        </p:blipFill>
        <p:spPr>
          <a:xfrm>
            <a:off x="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MCj01358170000[1]"/>
          <p:cNvPicPr/>
          <p:nvPr/>
        </p:nvPicPr>
        <p:blipFill>
          <a:blip r:embed="rId2"/>
          <a:stretch/>
        </p:blipFill>
        <p:spPr>
          <a:xfrm>
            <a:off x="91440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MCj01358170000[1]"/>
          <p:cNvPicPr/>
          <p:nvPr/>
        </p:nvPicPr>
        <p:blipFill>
          <a:blip r:embed="rId3"/>
          <a:stretch/>
        </p:blipFill>
        <p:spPr>
          <a:xfrm>
            <a:off x="175248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MCj01358170000[1]"/>
          <p:cNvPicPr/>
          <p:nvPr/>
        </p:nvPicPr>
        <p:blipFill>
          <a:blip r:embed="rId4"/>
          <a:stretch/>
        </p:blipFill>
        <p:spPr>
          <a:xfrm>
            <a:off x="259092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MCj01358170000[1]"/>
          <p:cNvPicPr/>
          <p:nvPr/>
        </p:nvPicPr>
        <p:blipFill>
          <a:blip r:embed="rId5"/>
          <a:stretch/>
        </p:blipFill>
        <p:spPr>
          <a:xfrm>
            <a:off x="342900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MCj01358170000[1]"/>
          <p:cNvPicPr/>
          <p:nvPr/>
        </p:nvPicPr>
        <p:blipFill>
          <a:blip r:embed="rId6"/>
          <a:stretch/>
        </p:blipFill>
        <p:spPr>
          <a:xfrm>
            <a:off x="426708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Cj01358170000[1]"/>
          <p:cNvPicPr/>
          <p:nvPr/>
        </p:nvPicPr>
        <p:blipFill>
          <a:blip r:embed="rId7"/>
          <a:stretch/>
        </p:blipFill>
        <p:spPr>
          <a:xfrm>
            <a:off x="510552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MCj01358170000[1]"/>
          <p:cNvPicPr/>
          <p:nvPr/>
        </p:nvPicPr>
        <p:blipFill>
          <a:blip r:embed="rId8"/>
          <a:stretch/>
        </p:blipFill>
        <p:spPr>
          <a:xfrm>
            <a:off x="5943600" y="5265720"/>
            <a:ext cx="1371600" cy="15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MCj01358170000[1]"/>
          <p:cNvPicPr/>
          <p:nvPr/>
        </p:nvPicPr>
        <p:blipFill>
          <a:blip r:embed="rId9"/>
          <a:stretch/>
        </p:blipFill>
        <p:spPr>
          <a:xfrm>
            <a:off x="6934320" y="5265720"/>
            <a:ext cx="1371600" cy="159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MCj01358170000[1]"/>
          <p:cNvPicPr/>
          <p:nvPr/>
        </p:nvPicPr>
        <p:blipFill>
          <a:blip r:embed="rId10"/>
          <a:stretch/>
        </p:blipFill>
        <p:spPr>
          <a:xfrm>
            <a:off x="7924680" y="5265720"/>
            <a:ext cx="14479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e are words usually associated with the imperfect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066680" y="2513160"/>
            <a:ext cx="3657600" cy="36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os los dí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s las no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os los meses.. añ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emp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m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876920" y="2470320"/>
            <a:ext cx="358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n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 vez en cuan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entr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 niño(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 jov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6:42:11Z</dcterms:created>
  <dc:creator>lhagemeier</dc:creator>
  <dc:description/>
  <dc:language>en-US</dc:language>
  <cp:lastModifiedBy>Box Elder School District</cp:lastModifiedBy>
  <dcterms:modified xsi:type="dcterms:W3CDTF">2012-03-12T15:00:35Z</dcterms:modified>
  <cp:revision>7</cp:revision>
  <dc:subject/>
  <dc:title>Preterite v. Imperfect</dc:title>
</cp:coreProperties>
</file>